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3F5B-3FAC-48FD-9947-7189FE962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F62F-8A73-4840-ABE2-B4395529D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3B65-0B5E-4718-8265-B3018906B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9AA5-F785-4B2A-88ED-C83C09203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6FE4-3810-4DA2-9B6C-C7F7F29F8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4424-D3C3-415E-ADEE-E131ADF56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BF7B-FA8C-418F-A658-CCB173A61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294D-A2D3-4EFA-A49B-E41466DE9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3285-0992-4776-878B-65FB28B7A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E586-BD1D-4792-AEA3-3E0CAB7E8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79D3-FFB8-4B80-B626-CA728DE20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F9A6-0C89-4825-A855-120A64AC2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332AF-9015-4C5E-AE7A-DC74B9E41C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The Lord’s Pray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ur Father in heaven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allowed be your nam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r kingdom com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r will be don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n earth as in heav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Give us today our daily brea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orgive us our s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s we forgive thos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ho sin against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Save us from the time of tr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deliver us from evi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or the kingdom, the power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the glory are yo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now and for ever. A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61722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 Narrow"/>
              </a:rPr>
              <a:t>ELLC 19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2T00:20:11Z</dcterms:created>
  <dc:creator>Anon Anon</dc:creator>
  <dc:description/>
  <dc:language>en-US</dc:language>
  <cp:lastModifiedBy>Anon Anon</cp:lastModifiedBy>
  <dcterms:modified xsi:type="dcterms:W3CDTF">2005-08-16T04:24:54Z</dcterms:modified>
  <cp:revision>12</cp:revision>
  <dc:subject/>
  <dc:title>Lord’s Prayer</dc:title>
</cp:coreProperties>
</file>